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C0B-E2CC-4B1B-9DFA-B869DEAA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83E-6DD9-4041-B227-A744737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88B-CF35-4214-9A03-22AD70FB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E76-BEC0-4BDF-A050-748A291D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4C8B-52D4-4054-AA4C-F07F896C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66C-81D0-49C7-83FE-0F3EC022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D9E-8321-4EFF-A76B-DF33ED39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C80-0E22-405A-9E5F-6959A8E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886-F02D-4ACE-8C34-4D7D4834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A09-7034-4AE7-8DF2-29D0F96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4F3D-3E7F-44E3-8AAF-857ED4B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725-DF3C-4B12-B07A-0DD7F77C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70B-F46C-4926-ADAD-3F759ED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AA03-C4F0-48C5-9D86-6A8525B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29F1-97DE-40C2-9E5A-A3B5FE75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DBA-27F9-4926-9AF2-7CAEE1B1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8EF-602C-4536-A282-7BF064BE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196-E37B-4DE7-A106-40A2910D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286-97F6-45F7-ABA6-C4C05DAE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F19-1005-4FD0-9CB7-97190EAF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16D-1894-4267-9D9C-86B198E1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B7F-E12C-418B-8760-71B219FA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3FC-800A-459E-924D-9974928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0AF-9EC2-4793-ABA9-E7BDACF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E65-919E-4CA3-9789-A98B84B848A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16DD-D569-45BD-A98F-10E51FA2C9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To stare at angril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glar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s : rude st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glar-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s :ign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3237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orytell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Definition: A person who tells sto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Synonyms: read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Antonyms: danc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Syllable: Story-tell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Base word: storyt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Inflection: er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605560" y="2081160"/>
            <a:ext cx="1895400" cy="178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: to sign out and tak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nonyms: tra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tonyms:  ste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 Word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llable: Check-ou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68800" y="4114800"/>
            <a:ext cx="2967120" cy="1981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30760" y="2373480"/>
            <a:ext cx="184464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 :To take with permiss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nonyms le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tonyms: ste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llable: bor.r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se word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flection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78640" y="319104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ag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28T18:27:28Z</dcterms:modified>
  <cp:revision>7</cp:revision>
  <dc:subject/>
  <dc:title>PowerPoint Presentation</dc:title>
</cp:coreProperties>
</file>